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EFC-6BFE-42AD-81E5-33C044CE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7E97-5399-426C-A75C-132A404F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EDE-5C1B-40AA-B1A1-9001923E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2D7-15B6-4D0A-AEBE-6C4AA07E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B63-A683-4069-8764-76DCFFD0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512-847D-405E-86DA-6495F0C7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9F3-D049-4C10-BB46-E1FDF29E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FE8-6857-4499-B700-0C8F607F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D8B-9A21-4DFA-8CC0-0210E008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9D8-F2E2-4FD1-9E1B-06EEEA68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CAC-2C4A-44F5-B459-9A794CE1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0B3-8029-429B-8D1E-FF5589C2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7505-17ED-4B4B-BF57-4B41BFB6F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 Développ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083-7907-4823-8A92-1AF5E2F5D0F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Le dossier de program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m du composant logici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scription du rô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raphe des enchaînements des opé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léments en entrée (relations de la BD, autres fichi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scription des algorithmes de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trôles effectué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iste des messages sur anomalies détect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7C5-043E-4F94-A736-C6CEB36047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Le dossier de programmation 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léments en sortie (relations de la BD, autres fichi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terfaces vers des composants logiciels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ramètres utilis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quettes des écrans et imprim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iste des données et fichiers ayant servi aux ess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ultats des ess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cédures de tests utilis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B5A-6490-4365-B3C3-460D62A1FCA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revue de program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lidation des dossiers de program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jalon contractuel dans l’état d’avancement du pro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lench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ériodiquement durant l’ét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fin d’ét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cuments en ent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s des spécifications fonctionnelles valid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ictionnaire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éthodes, outils et normes à utili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traintes techniques à prendre en comp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622-31A7-44F7-96E4-404AB3AAF5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revue de programmation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cuments en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s des program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s d’administration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iste des références crois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ditions de passage à l’étape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ssiers de programmation comp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sts unitaires tous valid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sts d’enchaînement techniques conformes pour le maître d’œu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lan d’assurance qual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tests de recette agréé par utilis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lendrier de l’étape suivante actualis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vis favorable du maître d’ouvrage lors du contrôle qua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875-DAEB-4FE3-94CD-A27D790520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phase des tests unita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stallation des moyens de tests unit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répé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écution des tests (et enregistrement des résulta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araison des résul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termination du taux de couve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difications éventuellement (si non conformi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jusqu’à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la conformité des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te rendu dans les dossiers de tests unit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vue de tests unit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52F-B2D2-4EBC-B3D4-EAFE14A3310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 flot de contrôle d’un algorith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dé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ir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n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tant q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note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[0,2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écrir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"note incorrect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ir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n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fin tant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note &gt;=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o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écrir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"bonne not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n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écrir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"mauvaise not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344120" y="1981080"/>
            <a:ext cx="4601520" cy="3797280"/>
            <a:chOff x="4344120" y="1981080"/>
            <a:chExt cx="4601520" cy="3797280"/>
          </a:xfrm>
        </p:grpSpPr>
        <p:grpSp>
          <p:nvGrpSpPr>
            <p:cNvPr id="82" name=""/>
            <p:cNvGrpSpPr/>
            <p:nvPr/>
          </p:nvGrpSpPr>
          <p:grpSpPr>
            <a:xfrm>
              <a:off x="4419720" y="2057400"/>
              <a:ext cx="3351960" cy="3580920"/>
              <a:chOff x="4419720" y="2057400"/>
              <a:chExt cx="3351960" cy="3580920"/>
            </a:xfrm>
          </p:grpSpPr>
          <p:sp>
            <p:nvSpPr>
              <p:cNvPr id="83" name=""/>
              <p:cNvSpPr/>
              <p:nvPr/>
            </p:nvSpPr>
            <p:spPr>
              <a:xfrm>
                <a:off x="5482440" y="4767120"/>
                <a:ext cx="16380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482440" y="2057400"/>
                <a:ext cx="163800" cy="193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45520" y="5445000"/>
                <a:ext cx="163080" cy="193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482440" y="2831400"/>
                <a:ext cx="163800" cy="193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45520" y="4186440"/>
                <a:ext cx="163080" cy="193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482440" y="3605760"/>
                <a:ext cx="163800" cy="193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564160" y="2250720"/>
                <a:ext cx="0" cy="58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19720" y="4186440"/>
                <a:ext cx="16308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564160" y="3024720"/>
                <a:ext cx="0" cy="58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46240" y="3702600"/>
                <a:ext cx="899280" cy="48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01080" y="3621960"/>
                <a:ext cx="981000" cy="564120"/>
              </a:xfrm>
              <a:custGeom>
                <a:avLst/>
                <a:gdLst/>
                <a:ahLst/>
                <a:rect l="l" t="t" r="r" b="b"/>
                <a:pathLst>
                  <a:path w="576" h="280">
                    <a:moveTo>
                      <a:pt x="576" y="40"/>
                    </a:moveTo>
                    <a:cubicBezTo>
                      <a:pt x="432" y="20"/>
                      <a:pt x="288" y="0"/>
                      <a:pt x="192" y="40"/>
                    </a:cubicBezTo>
                    <a:cubicBezTo>
                      <a:pt x="96" y="80"/>
                      <a:pt x="48" y="180"/>
                      <a:pt x="0" y="2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4582080" y="3798720"/>
                <a:ext cx="981000" cy="564120"/>
              </a:xfrm>
              <a:custGeom>
                <a:avLst/>
                <a:gdLst/>
                <a:ahLst/>
                <a:rect l="l" t="t" r="r" b="b"/>
                <a:pathLst>
                  <a:path w="576" h="280">
                    <a:moveTo>
                      <a:pt x="576" y="40"/>
                    </a:moveTo>
                    <a:cubicBezTo>
                      <a:pt x="432" y="20"/>
                      <a:pt x="288" y="0"/>
                      <a:pt x="192" y="40"/>
                    </a:cubicBezTo>
                    <a:cubicBezTo>
                      <a:pt x="96" y="80"/>
                      <a:pt x="48" y="180"/>
                      <a:pt x="0" y="2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08600" y="4767120"/>
                <a:ext cx="163080" cy="19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708960" y="4283280"/>
                <a:ext cx="899640" cy="48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646240" y="4283280"/>
                <a:ext cx="899280" cy="48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6708960" y="4960800"/>
                <a:ext cx="899640" cy="48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flipV="1">
                <a:off x="5646240" y="4960800"/>
                <a:ext cx="899280" cy="48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172560" y="3733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fau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9600" y="426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fau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720" y="419112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vra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44120" y="342900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vra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39760" y="198108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éb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7160" y="541008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05360" y="403848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note &gt;=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39040" y="3429000"/>
              <a:ext cx="14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note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 [0,2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27432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ire</a:t>
              </a: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 n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96560" y="47242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"bonne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13360" y="4708440"/>
              <a:ext cx="123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"mauvaise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36640" y="4314960"/>
              <a:ext cx="118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"incorrect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ire</a:t>
              </a: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 n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68C-C36E-4D62-977D-006FDCC60F3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Jeu d’essai et résultats attend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58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2.5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onne no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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te incor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uvaise n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onne n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uvaise n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onne n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te incor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te incor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interruption du program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975200" y="2155680"/>
            <a:ext cx="3464640" cy="3797280"/>
            <a:chOff x="4975200" y="2155680"/>
            <a:chExt cx="3464640" cy="3797280"/>
          </a:xfrm>
        </p:grpSpPr>
        <p:sp>
          <p:nvSpPr>
            <p:cNvPr id="115" name=""/>
            <p:cNvSpPr/>
            <p:nvPr/>
          </p:nvSpPr>
          <p:spPr>
            <a:xfrm>
              <a:off x="6039000" y="4941720"/>
              <a:ext cx="16344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39000" y="2232000"/>
              <a:ext cx="163440" cy="193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01000" y="5619600"/>
              <a:ext cx="163440" cy="193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39000" y="3006720"/>
              <a:ext cx="16344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01000" y="4361040"/>
              <a:ext cx="163440" cy="193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39000" y="3781440"/>
              <a:ext cx="163440" cy="193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19640" y="2425680"/>
              <a:ext cx="0" cy="5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75200" y="4361040"/>
              <a:ext cx="163440" cy="19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19640" y="3200400"/>
              <a:ext cx="0" cy="5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02440" y="3878280"/>
              <a:ext cx="898560" cy="48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57640" y="3797280"/>
              <a:ext cx="981360" cy="563760"/>
            </a:xfrm>
            <a:custGeom>
              <a:avLst/>
              <a:gdLst/>
              <a:ahLst/>
              <a:rect l="l" t="t" r="r" b="b"/>
              <a:pathLst>
                <a:path w="576" h="280">
                  <a:moveTo>
                    <a:pt x="576" y="40"/>
                  </a:moveTo>
                  <a:cubicBezTo>
                    <a:pt x="432" y="20"/>
                    <a:pt x="288" y="0"/>
                    <a:pt x="192" y="40"/>
                  </a:cubicBezTo>
                  <a:cubicBezTo>
                    <a:pt x="96" y="80"/>
                    <a:pt x="48" y="180"/>
                    <a:pt x="0" y="28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5137920" y="3974400"/>
              <a:ext cx="981000" cy="563400"/>
            </a:xfrm>
            <a:custGeom>
              <a:avLst/>
              <a:gdLst/>
              <a:ahLst/>
              <a:rect l="l" t="t" r="r" b="b"/>
              <a:pathLst>
                <a:path w="576" h="280">
                  <a:moveTo>
                    <a:pt x="576" y="40"/>
                  </a:moveTo>
                  <a:cubicBezTo>
                    <a:pt x="432" y="20"/>
                    <a:pt x="288" y="0"/>
                    <a:pt x="192" y="40"/>
                  </a:cubicBezTo>
                  <a:cubicBezTo>
                    <a:pt x="96" y="80"/>
                    <a:pt x="48" y="180"/>
                    <a:pt x="0" y="28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64440" y="4941720"/>
              <a:ext cx="16344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64440" y="4457880"/>
              <a:ext cx="900000" cy="483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202440" y="4457880"/>
              <a:ext cx="898560" cy="48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7264440" y="5135040"/>
              <a:ext cx="900000" cy="484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6202440" y="5135040"/>
              <a:ext cx="898560" cy="48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28400" y="39085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fau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71200" y="436572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vra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95600" y="215568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éb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62640" y="558468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60840" y="421308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note &gt;=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94520" y="3603600"/>
              <a:ext cx="14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note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 [0,2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94520" y="29178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ire</a:t>
              </a: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 n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67160" y="4883040"/>
              <a:ext cx="137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"bonne note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93C-5B3E-4D42-AF01-2F193C644D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revue de tests unita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lidation (à la charge du programmeur) des tests unitaires (de chaque program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lench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ériodiquement durant l’ét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fin d’ét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ditions de passage à l’étape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sts unitaires tous effect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lendrier de l’étape suivante actualis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vis favorable du maître d’ouvrage lors du contrôle qua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E56-FB64-4963-83FB-3AD064012A7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phase des tests d’inté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stallation des moyens de tests d’inté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répé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écution des tests (et enregistrement des résulta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araison des résul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termination du taux de couve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difications éventuellement (si non conformi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jusqu’à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la conformité des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te rendu dans dossiers de tests d’inté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vue de tests d’inté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33D-6906-4778-BA1C-687EE28EB2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 graphe des appels d’une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go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(7)     c(3.1416,x)     b(y)    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go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b (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tré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ti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(x^0.5,z+1)    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go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c (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tré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rée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ti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    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go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    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go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go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(4.0,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5546880"/>
            <a:ext cx="163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4025880"/>
            <a:ext cx="163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022640"/>
            <a:ext cx="163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084640" y="2660760"/>
            <a:ext cx="1208160" cy="13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08800" y="2695680"/>
            <a:ext cx="1208160" cy="13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08720" y="2755800"/>
            <a:ext cx="0" cy="125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2514600"/>
            <a:ext cx="163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24680" y="3746520"/>
            <a:ext cx="444600" cy="736560"/>
          </a:xfrm>
          <a:custGeom>
            <a:avLst/>
            <a:gdLst/>
            <a:ahLst/>
            <a:rect l="l" t="t" r="r" b="b"/>
            <a:pathLst>
              <a:path w="280" h="464">
                <a:moveTo>
                  <a:pt x="0" y="184"/>
                </a:moveTo>
                <a:cubicBezTo>
                  <a:pt x="100" y="92"/>
                  <a:pt x="200" y="0"/>
                  <a:pt x="240" y="40"/>
                </a:cubicBezTo>
                <a:cubicBezTo>
                  <a:pt x="280" y="80"/>
                  <a:pt x="280" y="384"/>
                  <a:pt x="240" y="424"/>
                </a:cubicBezTo>
                <a:cubicBezTo>
                  <a:pt x="200" y="464"/>
                  <a:pt x="40" y="304"/>
                  <a:pt x="0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78400" y="21463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54520" y="3701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62360" y="37940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13360" y="3701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80000" y="57024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51600" y="57308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4116240"/>
            <a:ext cx="116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4022640"/>
            <a:ext cx="163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32520" y="4219560"/>
            <a:ext cx="522000" cy="13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5533920"/>
            <a:ext cx="163800" cy="193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802480" y="4222800"/>
            <a:ext cx="522000" cy="13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178400" y="4216320"/>
            <a:ext cx="522360" cy="13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43560" y="4267080"/>
            <a:ext cx="622440" cy="1295640"/>
          </a:xfrm>
          <a:custGeom>
            <a:avLst/>
            <a:gdLst/>
            <a:ahLst/>
            <a:rect l="l" t="t" r="r" b="b"/>
            <a:pathLst>
              <a:path w="392" h="816">
                <a:moveTo>
                  <a:pt x="56" y="0"/>
                </a:moveTo>
                <a:cubicBezTo>
                  <a:pt x="28" y="196"/>
                  <a:pt x="0" y="392"/>
                  <a:pt x="56" y="528"/>
                </a:cubicBezTo>
                <a:cubicBezTo>
                  <a:pt x="112" y="664"/>
                  <a:pt x="252" y="740"/>
                  <a:pt x="392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6552360" y="4158360"/>
            <a:ext cx="622440" cy="1295640"/>
          </a:xfrm>
          <a:custGeom>
            <a:avLst/>
            <a:gdLst/>
            <a:ahLst/>
            <a:rect l="l" t="t" r="r" b="b"/>
            <a:pathLst>
              <a:path w="392" h="816">
                <a:moveTo>
                  <a:pt x="56" y="0"/>
                </a:moveTo>
                <a:cubicBezTo>
                  <a:pt x="28" y="196"/>
                  <a:pt x="0" y="392"/>
                  <a:pt x="56" y="528"/>
                </a:cubicBezTo>
                <a:cubicBezTo>
                  <a:pt x="112" y="664"/>
                  <a:pt x="252" y="740"/>
                  <a:pt x="392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141880" y="2749680"/>
            <a:ext cx="1208160" cy="13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CFF-9EB9-4237-83D1-B3DBDB88042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 cycle de vie du logic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800" y="1981080"/>
            <a:ext cx="585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amétra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stallation &amp;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olutions &amp;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14920" y="3218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466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51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86120" y="245592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62240" y="24559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62240" y="35463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938400" y="390996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440" y="3809880"/>
            <a:ext cx="24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odage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ests unitaires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ests d’inté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130-4680-4671-8864-672CE15A45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cénario de test d’inté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b(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(7.523^0.5,4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(2.72,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(1.44,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(3.1416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738680" y="2019240"/>
            <a:ext cx="3614760" cy="3952800"/>
            <a:chOff x="4738680" y="2019240"/>
            <a:chExt cx="3614760" cy="3952800"/>
          </a:xfrm>
        </p:grpSpPr>
        <p:sp>
          <p:nvSpPr>
            <p:cNvPr id="172" name=""/>
            <p:cNvSpPr/>
            <p:nvPr/>
          </p:nvSpPr>
          <p:spPr>
            <a:xfrm>
              <a:off x="5622840" y="5419800"/>
              <a:ext cx="16380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08640" y="3898800"/>
              <a:ext cx="16380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80240" y="3895560"/>
              <a:ext cx="16380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068800" y="2533680"/>
              <a:ext cx="120816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92960" y="2568600"/>
              <a:ext cx="120816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92880" y="2628720"/>
              <a:ext cx="0" cy="125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08640" y="2387520"/>
              <a:ext cx="16380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08840" y="3619440"/>
              <a:ext cx="444600" cy="736560"/>
            </a:xfrm>
            <a:custGeom>
              <a:avLst/>
              <a:gdLst/>
              <a:ahLst/>
              <a:rect l="l" t="t" r="r" b="b"/>
              <a:pathLst>
                <a:path w="280" h="464">
                  <a:moveTo>
                    <a:pt x="0" y="184"/>
                  </a:moveTo>
                  <a:cubicBezTo>
                    <a:pt x="100" y="92"/>
                    <a:pt x="200" y="0"/>
                    <a:pt x="240" y="40"/>
                  </a:cubicBezTo>
                  <a:cubicBezTo>
                    <a:pt x="280" y="80"/>
                    <a:pt x="280" y="384"/>
                    <a:pt x="240" y="424"/>
                  </a:cubicBezTo>
                  <a:cubicBezTo>
                    <a:pt x="200" y="464"/>
                    <a:pt x="40" y="304"/>
                    <a:pt x="0" y="2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62560" y="201924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38680" y="3574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46520" y="366696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97520" y="3574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64160" y="55753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35760" y="56037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32520" y="3989160"/>
              <a:ext cx="116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37040" y="3895560"/>
              <a:ext cx="16380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16680" y="4092480"/>
              <a:ext cx="522000" cy="1314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94440" y="5406840"/>
              <a:ext cx="16380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786640" y="4095720"/>
              <a:ext cx="52200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62560" y="4089240"/>
              <a:ext cx="522360" cy="1314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7720" y="4140000"/>
              <a:ext cx="622440" cy="1295640"/>
            </a:xfrm>
            <a:custGeom>
              <a:avLst/>
              <a:gdLst/>
              <a:ahLst/>
              <a:rect l="l" t="t" r="r" b="b"/>
              <a:pathLst>
                <a:path w="392" h="816">
                  <a:moveTo>
                    <a:pt x="56" y="0"/>
                  </a:moveTo>
                  <a:cubicBezTo>
                    <a:pt x="28" y="196"/>
                    <a:pt x="0" y="392"/>
                    <a:pt x="56" y="528"/>
                  </a:cubicBezTo>
                  <a:cubicBezTo>
                    <a:pt x="112" y="664"/>
                    <a:pt x="252" y="740"/>
                    <a:pt x="392" y="81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6536520" y="4031280"/>
              <a:ext cx="622440" cy="1295640"/>
            </a:xfrm>
            <a:custGeom>
              <a:avLst/>
              <a:gdLst/>
              <a:ahLst/>
              <a:rect l="l" t="t" r="r" b="b"/>
              <a:pathLst>
                <a:path w="392" h="816">
                  <a:moveTo>
                    <a:pt x="56" y="0"/>
                  </a:moveTo>
                  <a:cubicBezTo>
                    <a:pt x="28" y="196"/>
                    <a:pt x="0" y="392"/>
                    <a:pt x="56" y="528"/>
                  </a:cubicBezTo>
                  <a:cubicBezTo>
                    <a:pt x="112" y="664"/>
                    <a:pt x="252" y="740"/>
                    <a:pt x="392" y="81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126040" y="2622600"/>
              <a:ext cx="1208160" cy="1314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95280" y="524196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26668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44956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3176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30481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413080"/>
            <a:ext cx="0" cy="24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488304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43836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562284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3787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415620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D1D-F150-4A4D-B95D-E5452D3972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revue de tests d’inté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lidation des tests d’intégration dans le système d’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lench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à la fin de la phase des tests d’inté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s effect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formité par rapport aux exigences des spé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haustivité des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ditions de passage à l’étape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sts d’enchaînement effectués et reconnus conformes par le maître d’œu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vis favorable du maître d’ouvrage lors du contrôle qua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ED9-7D1D-482E-807B-62277A5B49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valuation de la réa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dossiers de réalisation sont-ils conformes aux standard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dossiers de tests unitaires sont-ils complets et conformes aux standard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spécifications fonctionnelles détaillées ont-elles été mises à jou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 schéma général de fonctionnement est-il à jou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ous les thèmes ont-ils fait l’objet d’une validation maîtrise d’œuv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C8A-6979-42F1-A017-59BD45CF683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valuation de la réalisation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’exécution des tests unitaires a-t-elle répondu aux exigenc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tests d’intégration ont-ils été effectué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Reste-il des anomalies maîtrise d’œuvre non corrigé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corrections d’anomalies demandées par l’équipe de recette ont-elles été effectuées et ont-elles été validées par la maîtrise d’œuv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tests de non régression sont-ils fai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documents de conception et de paramétrage sont-ils à jou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FC9-CD43-4864-ADD3-6D57C978D72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Nor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193760" y="1676520"/>
          <a:ext cx="685332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3760" y="1676520"/>
                    <a:ext cx="685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47B-2F4B-4BC5-9827-81ABBAECAB42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ritères (facteurs qualité) utilis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ue de l’utilis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ue de la maîtrise d’ouv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tilisabilité - Rendement - Maintenabilité - Portabilité - Réutilisabilité - Interopéra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ue de la maîtrise d’œuv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iabilité - Efficacité - Intégrité - Testa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D98-FC5F-4123-9AC1-1374AE556B7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Qualification du produit :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qualité d’explo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alid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hérence - Complétude - Précision - Lisibilité - Traça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fficac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fficacité d’exécution - Efficacité de stockage - Instr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obust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olérance aux pannes - Pré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D7E-97F8-48EF-B61F-198E5362DA7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Qualification du produit :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qualité d’exploitation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fidentia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ania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vivialité - Exploitabilité - Facilité d’utilisation - Facilité d’apprenti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upla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Banalisation des communications - Standardisation des données - Standardisation des interfaces - Modular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BC1-3F0B-40E2-B202-6B69ACA61C4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Qualification du produit :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qualité d’é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aintena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uto-description - Concision - Instrumentation - Lisibilité - Modularité - Observabilité - Réutilisabilité - Traça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volutiv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uto-description - Cohérence - Concision - Expansibilité - Lisibilité - Modularité - Réutilisabilité - Traça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6AD-DBA5-485B-B40E-96046873CCD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Qualification du produit :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qualité de transf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rta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dépendance vis à vis de l’environnement logiciel - Indépendance vis à vis de l’environnement matériel - Modular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E9A-AF56-4AB7-BCDD-8E68524E97E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développement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aduire l’architecture technique conçue (algorithmes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étaillés) en code (sour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iler le code source en un programme exécutable (compréhensible par l’ordinateu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ssayer le logiciel pour en vérifier le bon fonction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2B0-32D8-4840-85FB-4C80E76C32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Qualification du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rocessus de fabr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pacité à gé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pacité à estimer les délais, à estimer les charges, à décider - Gestion des événements - Structure de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pacité à produ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îtrise des délais, des charges et ressources, de la mise en œuvre de la qualité du produit - Structure de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pacité à mettre en œuvre les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ation des méthodes, normes et standards, des outils - Utilisation effective des techniques de 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B63-2F9A-4497-BB1B-DE03D1EB74F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rois phases s’enchaîn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cod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chaque programme (partie indépendante d’un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ogic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tests unit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aque programme fonctionne-t-i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ossiers de tests unit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tests d’inté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s les programmes une fois assemblés fonctionnent-il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ossiers de tests d’inté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23E-A21D-410E-B245-B5507D3104B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phase de cod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aduction de la conception détaillée en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aisie du code et des comment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daction des dossiers de tests unit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vision des dossiers d’exploitation et d’inté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vue d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C44-1428-4B0A-9EE5-5462F9F0AC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Un code de qual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sp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normes de programmation et des procé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consignes d’u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finies dans l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plan d’assurance qualité logici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de (données et traite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tructu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cumen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djoint au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ossier de 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D7A-2867-43B4-9788-DB31C7765B6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raduction d’un algorithme en langage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{ saisit et indique si une note est bonne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gorithm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: TraitementN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ntré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orti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variabl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 :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rée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{ note à saisir et à tester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dé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{ saisie de la note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lir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n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{ indique si la note est bonne ou non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i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note &gt;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or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écrir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"bonne not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in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écrir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"mauvaise not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/* saisit et indique si une note est bonne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void TraitNot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/* entrées :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/* sorties :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/* note à saisir et à teste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float note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/* saisie de la note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rintf("Saisissez la note : 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scanf("%d",&amp;not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/* indique si la note est bonne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if (note &gt;=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rintf("bonne note\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rintf("mauvaise note\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80C-8BE3-4A7A-AEB1-B3ED3D47DC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raduction d’un algorithme en langage COB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{ saisit et indique si une note est bonne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gorithm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: TraitementN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ntré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orti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variabl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 :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rée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{ note à saisir et à tester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dé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{ saisie de la note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lir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n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{ indique si la note est bonne ou non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i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note &gt;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or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écrir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"bonne not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in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écrir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"mauvaise not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DATA DIVI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WORKING-STORAGE S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* note à saisir et à contrô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77 note PIC 99V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PROCEDURE DIVI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* saisit et indique si une no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* est bo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Traitement-No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* saisie de la no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DISPLAY "Saisissez la note : 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ACCEPT no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* indique si la note est bo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IF note &gt;=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DISPLAY "bonne note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DISPLAY "mauvaise note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03E-4066-4991-AB18-0C77B6190B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différentes appro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8640" y="2235240"/>
            <a:ext cx="5816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pproche ob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pproche à base d’obj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pproche modul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pproche structu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ype abstrait de don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Héri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28B-4F03-4DA1-81FA-8992ECEBE85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 développ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8:27:35Z</dcterms:created>
  <dc:creator>Olivier Guibert</dc:creator>
  <dc:description/>
  <dc:language>en-US</dc:language>
  <cp:lastModifiedBy>Département Informatique</cp:lastModifiedBy>
  <cp:lastPrinted>1999-02-28T23:27:47Z</cp:lastPrinted>
  <dcterms:modified xsi:type="dcterms:W3CDTF">1999-03-07T13:13:56Z</dcterms:modified>
  <cp:revision>55</cp:revision>
  <dc:subject/>
  <dc:title>Le développement</dc:title>
</cp:coreProperties>
</file>