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467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8150-115F-4196-BA4E-C81896BC8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63FE-CC8D-478D-AE31-027BCDBD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252F-5189-4BAB-A0F0-C59EFB38B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8897-993B-4947-B884-B54BB35E1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D46B-E05D-41CB-BBC8-8F9EAEAF9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12F0-C2A0-457F-83AC-04F998D4F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ED34-6C54-4387-8BB5-5F67C7B10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9ECE-9EB1-4601-885C-56238CB22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C441-006D-412C-9251-ABF92055A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E0E1-2AC9-40D1-8366-1618EAE7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2FBA-CF90-4527-9F42-FD7A99C8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5EA2-05BA-4010-9AFC-86F3D83D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BE8E8-C815-4B73-95ED-54A0F74FF6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a Docu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F8DB-F164-445D-9112-F9462196C881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 documentation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Documents à fournir à chaque étape du cycle de v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émarrage du proj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lan qualité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lan de développ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nalyse du bes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ahier des charges fonctionnel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pécification technique de beso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pécifications du systè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ocument de définition préliminaire du systèm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Manuel sommaire d’utilisation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lan de validation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lan de qualification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lan du Cahier de recet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18EC-FAB3-4BD6-8191-3095F6AA095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 document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Documents à fournir à chaque étape du cycle de vie (suite 1/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pécifications d’un sous-systè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ocument de définition préliminaire du sous-systèm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Manuel sommaire d’utilisation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lan du Cahier de recet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ception générale sous-systè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ocument de conception générale du sous-systèm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ossier d’interfac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ossier de Tests de validation du sous-système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lan d’intégration du sous-système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nrichir le Manuel d’utilisation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ossier justificatif de cho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4493-9E3F-48DB-9DBE-CEA0F7AE3E9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 document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Documents à fournir à chaque étape du cycle de vie (suite 2/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ception détaillée sous-systè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ocument de conception détaillée du sous-systèm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lan de détail du matériel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pécifications d’achat de matériel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ossier d’interfac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ossier justificatif de choix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Manuel d’utilisation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ossiers plan de tests unitaires du sous-systèm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ossier plan de tests de validation du sous-systèm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lan d’intégration du sous-systè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éalisation d’un sous-systè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ossier de codage des composants logiciel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ossier de tests unitaires des composants du sous-systè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94E1-3774-437E-A1C3-08A0A540741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 document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Documents à fournir à chaque étape du cycle de vie (suite 3/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ests unitaires d’un sous-systè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ossier de tests du sous-systè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ests d’intégration d’un sous-système dans le systè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ossier de tests d’intégration du sous-systè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ests de validation d’un sous-systè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ossier de tests de validation du sous-systè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ests d’intégration du système dans son environnement (autres systè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ossier de tests d’intégration du systè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F55E-D480-4BC1-A5D3-463BA939661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 document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Documents à fournir à chaque étape du cycle de vie (suite 4/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ests de validation du systè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ossier de tests de validation du systèm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ahier de recett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rocès-verbal de recette inter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Qualification opérationn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ossier de qualification opérationnell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ahier de recett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rocès-verbal de recette 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ploitation - Mainten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iches d’intervention après vente (sous/hors garanti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2591-4969-498D-BE9E-CC4BAC5AAD2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 document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a structure de la documentation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[ISO 9001 § 4.4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Niveau 1 (description d’ensemble) : maîtrise de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escription des concepts, des objectifs et des politiques d’entrepr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éfinition de la responsabilité de la direction, les délégations des responsabilités et autori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Niveau 2 (procédures d’ordre général) : coopé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escription générale et détaillée des responsabilités et autorités pour chaque fonction ou dépar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Niveau 3 (instructions/outils) : bases de travail pour les tâches de chac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nregistrement des documents opérationnels produits par les personnes chargées de l’exécution des procéd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432C-8660-4345-88DC-07DE440224A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 document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Répartition des documents d’un projet logiciel du niveau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Manuel Qual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Énonce la politique qual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écrit le système qualité pour toute l’organ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Manuel Assurance Qualité (MA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épond aux exigences externes de la qualité pour tous les cl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Manuel Assurance Qualité Logiciel (MAQ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épond aux exigences externes de la qualité pour les besoins spécifiques du logici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9574-9E29-4492-A898-D161083A2AB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 document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Répartition des documents d’un projet logiciel du niveau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Plan Qual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ispositions spécifiques se rapportant à un produit, un client, un projet, un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Plan Assurance Qual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ispositions particulières pour un couple client/produ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Plan Assurance Qualité Logiciel type (PAQ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ispositions spécifiques se rapportant à un projet logici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Procédures géné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Manière spécifiée d’accomplir une activité (quoi, qui, comment, quand, où, combi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672E-1321-4237-92B8-03B664CED24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 document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Répartition des documents d’un projet logiciel du niveau 2 (suit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Instructions de trav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escription détaillée de la façon de réaliser une activ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Modèles types de doc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éfinition des structures normalisées des dossiers et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Formula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adre normalisé pour les documents préétablis à remplir pour la saisie d’in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Fi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adre normalisé pour les imprimés préétablis à complé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52D9-4EB4-488B-8118-0D6071E9C82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 document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Répartition des documents d’un projet logiciel du niveau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Notes d’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reuve tangible des échanges d’informations inter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Compte-rendu de réun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reuve tangible des décisions prises en réun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Dossiers d’étude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(définition de besoins, concep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Matérialisation des résultats obtenus lors des travaux d’étu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Guides d’util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rmalisation des consignes sous forme de mode d’emploi des procédures et outi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4925-08F3-4809-805E-8A84652AE3E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 document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Un rôle essenti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Matérialisation de l’état d’avancement des travau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Moyen de communication entre interven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artie intégrante de la fourniture du produ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Support des étapes suiv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omposant (en partie) de la mémoire de l’organi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AE14-35F6-4F9D-B4FB-74C01420C4F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 document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Répartition des documents d’un projet logiciel du niveau 3 (suit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Rev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nregistrement des contrôles effectu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Plan d’Assurance Qualité Logiciel pour le projet « P 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éclinaison du PAQL type appliqué au projet « P 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Graphes de modél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rmalisation des travaux de con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CA64-89B3-4456-86C5-71BFF6DD9DA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 document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a maîtrise des document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[ISO 9000-3 § 6.2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apacité 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oncevo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rédi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diffus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retirer de la circulation si nécessai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es documents (adaptés à l’usage pour lequel ils sont prév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29A1-90B1-4B82-B1C9-A39CA90550C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 document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a maîtrise des document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concerne tout le cycle de v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uvrir toutes les étapes du cycle de vie du logici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nception, paramétrage, développement, recette, installation, exploitation, mainten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y compris les documents relatifs au système qual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j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ous les documents d’organisation liés au projet (contrat, planning, organisation du projet, plan de développement, plan de validation, procédure d’acceptation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ous les documents de type exploitation (manuel d’installation, manuel d’utilisation, guide de maintenance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1FB5-18C7-4EA7-B872-C6AE6AF8E2B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 document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3 règles pour la maîtrise des docu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ttribuer une référence (i.e. un numéro) à un (seul) document afin de pouvoir l’identifier sans équivo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Gérer la documentation par sous-ensembles, les références d’un même sous-ensemble étant répertoriées dans une nomenclature de gestion ; la description des liens se fait par un schéma d’arbor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dentifier les documents en fonction de leur nature ou de leur utilisation (dossier de spécification, dossier de conception, dossier d’exploitation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256C-C7BE-4A20-912A-C3CE101A070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 document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Circulation des docu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den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ttribuer un nom et un code à chaque doc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xemple de codification : type de document (note d’information, compte-rendu de réunion, procédure, fiche ou formulaire, dossier de définition des besoins, dossier de conception générale, dossier de conception détaillée, manuel d’utilisation, etc.), émetteur(s), destinataire(s), numéro en séq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ré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édiger le doc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urant son élaboration, le document est dans l’état « provisoire » avec un n° de version compris entre 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0.1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 et 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0.p-1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; à la fin, le document est dans l’état « à valider » avec le n° de version 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0.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835D-6B38-4EDB-A38A-25C947E635D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 document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Circulation des documents (suit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Vali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mender le document, par une autre instance que le rédact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 la fin, le document est dans l’état « validé » avec le n° de version 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1.0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(ou 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n+1.0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uite à une modific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f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ransmettre le document (validé) aux destinat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od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rriger le document (par le rédacteu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rchivage de la version 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n.0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t validation de la nouvelle ver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up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etrouver, archiver et détruire tous les exemplaires diffus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AC21-A0B5-4D02-9704-38E4CCECC23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 document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Normes de pré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n-tête de page : à quel document a-t-on affair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ogo, émetteur, titre, rappel du sujet, n° d’identification, date d’édition, n° version/rév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rps du document : partie utilisable par le rédac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tiliser un style unique de présentation des chapitres et paragraphes, une police et une taille de caractères unique et agréable (ex. : Times New Roman, 12 poin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ied de page : informations complémenta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nom du fichier, état de validation du document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33E1-5144-4FB0-863A-F42C89B23B8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 document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Différentes catégories de p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uver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ommaire avec table des matiè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iste des destinata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ircuit des valid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dentifiant des mises à j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68EA-7702-4C14-8D79-B2EFC6AC824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 document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5T18:27:35Z</dcterms:created>
  <dc:creator>Olivier Guibert</dc:creator>
  <dc:description/>
  <dc:language>en-US</dc:language>
  <cp:lastModifiedBy>Département Informatique</cp:lastModifiedBy>
  <cp:lastPrinted>1999-02-28T23:27:47Z</cp:lastPrinted>
  <dcterms:modified xsi:type="dcterms:W3CDTF">2000-06-29T13:28:52Z</dcterms:modified>
  <cp:revision>77</cp:revision>
  <dc:subject/>
  <dc:title>La documentation</dc:title>
</cp:coreProperties>
</file>