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2C9-4926-4046-A196-2066A735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5BD-EF4C-493F-8D52-A0E3137E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10E-B728-4685-ADF8-8977B645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ED4-70D7-4F83-A11F-3F17BD90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4EA-93F9-45C0-A889-27AF4DF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934-3832-44C8-A2FC-E42DE278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EE5-8C34-40AA-94CD-7B118D7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6DB-A0DE-457F-94D9-54D32D0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1D3-60C9-43BD-A91C-AD1D083F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DB4-5FC1-41F7-B06A-89B8A08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8ED-3467-4036-893C-0657C7E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DD1-0B72-4263-8165-14FACFC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870-713E-4E64-8FA0-C9D4C48CF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Evolutions et la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2AF-6BAB-4D11-AB5F-99F77E98BDF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7480" y="1863720"/>
          <a:ext cx="8836200" cy="69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863720"/>
                    <a:ext cx="8836200" cy="69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945-C757-446B-8AEB-D59C81B2A2F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e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28720" y="1644480"/>
          <a:ext cx="9204120" cy="51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644480"/>
                    <a:ext cx="920412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4B3-04A4-498D-BE7D-A8BC9BBB6F9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ritères (facteurs qualité) utili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’utilis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pacité fonctionnelle - Conformité - Fiabilité - Efficacité - Tes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ouv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pacité fonctionnelle - Conformité - Fiabilité - Efficacité - Rendement - Mainten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œu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ormité - Fiabilité - Efficacité -Mainten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9FD-9BBA-4686-8C7F-465BA18114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cycle de vie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19880" y="1838160"/>
            <a:ext cx="577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amétr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tallation &amp;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volutions &amp;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14840" y="307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33840" y="452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33840" y="520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86040" y="231300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262160" y="23130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62160" y="340344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37960" y="37670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25920" y="5545080"/>
            <a:ext cx="46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tablissement d’1 demande de 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raitement des demandes de 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CA1-C758-483E-B07A-4A808A0119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Evolutions et la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 cours de l’exploitation du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Gestion des modifications rigoureuse pour garantir la cohérence des programmes et de la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ritère de maintenabilité ici essentiel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D2C-E8EC-4FC7-8029-E2FEE2A04D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deux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Etablissement d’une demande de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tat d’anomal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mande d’é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herche des c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irmation de l’anom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raitement des demandes de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nalyse et é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alisation de la 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s de la 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pte-rendu dans le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ossier de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idation des 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ise en exploitation de la 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EF1-6CBC-4AD3-8518-E46975013E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origine de la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stat d’anomali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nifestation d’une non conformité du logiciel par rapport aux spécifications ou aux manuels d’utilisation ou d’explo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apport d’anoma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mande d’é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ngement des spécifications (ajout, modification ou suppression de fonctionnalit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apport de demande d’é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819-9C2B-43F2-914A-2AD4A45062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types d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ite à un constat d’anomali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ce corrective : mise en conformité du logici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ce productive : impact sur la conception du système (fonctionnalités oubliées ou analysées incomplè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ite à une demande d’é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ce adap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ce préven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8EB-38A2-436A-A5F3-BA7EE2C6A3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nalyse et évaluation d’une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termination des actions à mener pour éliminer le(s) défaut(s) du constat d’anomalie ou pour répondre à la demande d’é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herche du document touché le plus en am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ste de tous les éléments (documents et programmes) touch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inition des actions à engager (en envisageant différentes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iche de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287-4FAA-47BA-8E99-A6F8E35C28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alisation et suivi d’une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l’ordre de modification est donné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modification bien fond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ffectuer les actions décrites dans la fiche de modificatio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modifier les programmes, les données, les procédures et la documen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ffectuer les tests et les contrôles asso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er le nouvel état des éléments de configuration modifiés et mise à jour des nomencl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ablir l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ossier de modificatio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rapport d’anomal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rapport d’évolu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fiche de modifica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ordre de modification, images avant et après des éléments de configuration touch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vrer la nouvel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015-3FA9-4D9D-879C-FFD4B5B046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a demande fonctionnelle de maintenance a-t-elle bien été prise en comp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a demande a-t-elle fait l’objet d’un dev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a documentation de conception a-t-elle été mise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a documentation de développement a-t-elle été mise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a documentation utilisateur a-t-elle été mise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standards ont-ils été bien respecté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corrections ont-elles bien été testé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essais de non régression ont-ils bien été effectué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modifications sont-elles sans effet sur les performanc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465-8037-4302-9F9C-3F1CDF8159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s évolutions et la maintenan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8:27:35Z</dcterms:created>
  <dc:creator>Olivier Guibert</dc:creator>
  <dc:description/>
  <dc:language>en-US</dc:language>
  <cp:lastModifiedBy>Département Informatique</cp:lastModifiedBy>
  <cp:lastPrinted>1999-02-28T23:27:47Z</cp:lastPrinted>
  <dcterms:modified xsi:type="dcterms:W3CDTF">1999-03-08T09:47:12Z</dcterms:modified>
  <cp:revision>61</cp:revision>
  <dc:subject/>
  <dc:title>Les évolutions et la maintenance</dc:title>
</cp:coreProperties>
</file>