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6EA-5E3C-4C1E-86F5-9AAA9E5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F62-F402-4CE0-B5C5-905CF8C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819-BEB0-4B79-9371-E1283C4C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DC4-E036-4C27-B027-E09DD2A6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B30-C69A-4601-9204-B54CD655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3A4-572B-4E6B-91D5-85F861B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CDD-A1C4-4E6A-AC9E-733BE926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D35-C093-444C-B1DD-5CF8E20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525-802E-4AE8-BA2C-EB98606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D53-FF91-4123-8A58-F43A19B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F6B-3763-4745-BA3A-E59B7C9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D4F-E36A-422B-A142-B929ED1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27B-FE0C-432E-8805-5CC991D27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cessus d'expression du bes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43D-CD12-46FC-9347-4F19A375C38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rit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icacité mémoire/ péri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icacité temps 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cilité d'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istorique des 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tection du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tection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ce % l'environnement matériel/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ula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andardisation des données/interfaces/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EA0-5ADC-48AF-B92B-D715C97B4F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tude d'un critère: la modular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ndre souple les architectures des systèmes pour atteindre les obj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f1: construction de programme par assemblage d'éléments de plus petite ta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l manque des aspect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tonomie, cohérence, ... des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it s'appliquer à la con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315-90D9-403F-AF1E-FF60C46A26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modular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f2: nouvelles pré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pec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mposabilité, composabilité, compréhensibilité, continuité et protection mod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ncip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. tout module doit communiquer avec aussi peu d'autres modules qu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 faible coup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. masquage d'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49F-7871-4A38-9A64-705E6B66E4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modular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t si vous ne comprenez pa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=&gt;fournir une vision abstraite du produit afin d'en améliorer la compré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exemple: un graphe de connexion d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n est le nombre de modules alors le nombre NC de connexions inter-module est dans l'intervalle :                   [n-1,n(n-1)/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rincipe 1 précise que NC doit être aussi faible que possibl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656-481B-4CAF-9359-6C44A93C16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de graphe de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D16-2EA2-4EB3-8323-035933DAF19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de graphe de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981080"/>
          <a:ext cx="77724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29C-DBF5-43F9-8267-4D0A142F6E6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de graphe de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152800"/>
          <a:ext cx="777240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52800"/>
                    <a:ext cx="77724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6A7-187F-47C8-92DF-BC5A1F8F2B4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tion de métr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623960"/>
          <a:ext cx="81356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3960"/>
                    <a:ext cx="81356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CE1-B65A-436B-AACE-6B5354515B9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ien entre facteurs et crit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igences sous forme de fac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tructure du logiciel à partir des crit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en: un critère "concourt à l'obtention" d'un fa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: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'Historique des accè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court à l'obtention de la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nfidentialité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techniques permettant d'obtenir la qualité 'interne' , sont des moyens pour obtenir un logiciel satisfaisant des qualités exter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05-DBA7-49E9-9C31-93E623D4E1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itère '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concourt à l'obtention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' d'un fac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54040" y="1752480"/>
          <a:ext cx="684540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752480"/>
                    <a:ext cx="6845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819-5841-41A9-BFC2-666667EFD66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alisation de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'expression du besoin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e développement du logici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ntenance du logiciel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3657600"/>
          <a:ext cx="683604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657600"/>
                    <a:ext cx="68360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78-769A-41E3-B318-2C6FC604BF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térêt de la démarch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acteur-critè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dre d'expression systé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se en évidence de certaines incompatibilités entre différentes exig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tégrité-Confidentialité / Facilité d'utilisation-Compatibilité-Port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fficacité / Portabilité-Extensibilité-Robust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pour concilier de tels facteurs apparemment contradic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omis avec affectation d'un poids pour chaque fa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42B-68B9-432C-8263-CA25FDE505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aquettage et prototy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ant toute phase d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de valider les besoins exprimés (maquet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de valider les solutions retenues (proto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85B-847D-401B-B1FA-2DD460C364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giciel et Qua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giciel de qualité 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esoin exprimé conforme aux besoins ré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duit conforme aux besoins exprim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haque processus (1 &amp; 2) doi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ruire cette conform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tre la vérification de cette conform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A55-9E80-4596-B027-2F7FCE61C1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mportance de l'expression du bes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rreur la plus lourde de conséquence: commencer la réalisation sans savoir ce que veut l'utilisateu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fluence sur le coût glob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a qualité augmente les 'chances' de réussite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DAE-9CC6-436A-BD75-7301E751C0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cessus d'expression du bes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faut spécifier ce que l’on veut fai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aintes à resp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 approches existent (!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 d'approches syst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 d'outils d'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u cas par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it minimiser la possibilité de commettre des err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530-1A4F-4527-BE4F-5AEAE0192E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hases essenti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 1: Collecte d’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ôle que le système doit jouer dans l’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tails des exigences de l’utilis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ueil des besoi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termination des objectif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dentification des contrai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hase 2: caractériser le produit à liv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 de méthodes form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termination (sommaire) des essais que l’on envisage de faire pour la rec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65D-F5DF-48D2-8E51-63919F8C64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hases essentiell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l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recueil d ’expression des besoins (ou cahier des charges) comprena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situation actuelle et des opportunités d’améli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situation à attein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tteindre la c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formances attendues du 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ape de validation du cahier des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898-1A51-4AF5-B738-5A7F592A2C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ossier de Spécification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igé par le maître d’ouv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digé par le maître d’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it quantifier toutes les performances fonctionn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54B-C08E-4F95-9C16-512F27A8CA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2 aspects à ne pas négli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fonctions à remplir par le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aractéristiques liées à l'environnement d'utilisation (un logiciel rapide, fiable, ergonomique, lisible, modulaire, structuré..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sion externe : f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ce ou absence détectée par 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sion interne : cri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ceptible par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formatic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ritères sont déterminant pour l'obtention des f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A1B-E126-4CEC-88A2-6AB2F63F76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xpress. du besoi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8:27:35Z</dcterms:created>
  <dc:creator>Félix Patrick</dc:creator>
  <dc:description/>
  <dc:language>en-US</dc:language>
  <cp:lastModifiedBy>Félix Patrick</cp:lastModifiedBy>
  <cp:lastPrinted>1999-02-28T23:27:47Z</cp:lastPrinted>
  <dcterms:modified xsi:type="dcterms:W3CDTF">1999-02-28T23:28:01Z</dcterms:modified>
  <cp:revision>4</cp:revision>
  <dc:subject/>
  <dc:title>Processus d'expression du besoin</dc:title>
</cp:coreProperties>
</file>