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D731-FCC8-43CF-A16F-3055360E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B4F-9E6E-4C36-A158-553E4F42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7556-6BF4-4C4E-AE4D-FE4DD85E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F75-6EFD-4FE5-99B3-E2661794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D66F-D9E9-40D7-9771-C3C5DEFC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B20B-34F6-4D8D-B26A-32541141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DA73-480B-4CE6-B9E4-44E6B7E4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F65-2A78-4744-A715-8212E7D7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4FB-F211-4E17-B7E1-AF8E6DCB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025-D047-4D35-AF7E-949E0628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DA2E-F89C-4228-8BD9-81B31EC4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EC8-F49D-428C-813D-6D550BD5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7825-DAEE-4D46-AB64-9470AB499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Con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C400-A130-442B-948B-F2A505C3286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Times New Roman"/>
              </a:rPr>
              <a:t>Le dossier de CG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(détai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scription des trai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dèle conceptuel des traitements (M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cription des procédur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tera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n intera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nu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gradées et de sec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pertoire des règles de 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quettes des écrans et des imprim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589B-B043-4BCB-B455-47E26ED94D3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Times New Roman"/>
              </a:rPr>
              <a:t>Le dossier de CG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(détai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scription des donn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dèle conceptuel des données (MC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cription (sur le site central) d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tités et assoc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traintes (d’intégrit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cription des objets répartis (client/serve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990-A157-48DF-B191-4DA84C9806A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Times New Roman"/>
              </a:rPr>
              <a:t>Le dossier de CG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(détai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léments de recette fonctionn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léments du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Manuel utilisa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léments du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ossier d’explo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x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rchitecture technique projet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olumét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E86B-00A2-4076-BF1D-31D9401445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Modèle conceptuel de communication (MC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456320" cy="252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B85-F151-4041-9BBF-3D97F3E74D3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Modèle conceptuel des traitements (MC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5913720" cy="369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511-15AA-4601-B448-2F62C54B2284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Modèle conceptuel des données (MC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7032600" cy="139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59A-C5C9-40CF-A312-E1B7FD31AC4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ycle de vie des objets (CV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8132760" cy="125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CBC-5059-43A1-A0F9-B5C881F7F2C1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Modèle conceptuel des traitements analytique (MCT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81120" y="2313000"/>
            <a:ext cx="5977080" cy="36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2E9-BF06-497A-88DA-309B5418CE7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valuation de la 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a liste des thèmes est-elle précise et complèt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es liens entre les thèmes sont-ils identifié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e périmètre organisationnel est-il cerné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es interfaces avec les systèmes externes sont-ils identifié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es standards de conception sont-ils rédigés et complet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FF5-2440-45AD-8AEC-F425D9F9ABC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valuation de la CG (sui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a méthode de conception a-t-elle été communiquée à l’équipe de conceptio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e MCT est-il validé par l’autorité compétent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e MCD est-il validé par l’autorité compétent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Y a-t-il un plan d’intégratio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e cahier de recette a-t-il été complété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e devis chiffré a-t-il été transmis à la maîtrise d’ouvrag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6D6A-A1B8-4DB8-872B-7F8367BA239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 cycle de vie du logic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3960" y="1887480"/>
            <a:ext cx="577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pé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amétra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stallation &amp; 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olutions &amp;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7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576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2362320"/>
            <a:ext cx="1752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286000" y="23623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345276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962160" y="381636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26668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.  générale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.  détaill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995-5D4F-4788-B3DC-CB7FDE620B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phase Conception Détaillé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finition de l’architecture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odélisation des traitements (MOT) et des données (M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pécifications pour les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trôles &amp; Rev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B5DA-7C41-4516-93EB-3E7A4A1EB3C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Times New Roman"/>
              </a:rPr>
              <a:t>Le dossier de CD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(sommai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ocuments applic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nvironn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sentation détaillée des sous-ensem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léments de va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nn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FBDE-5EBC-45F1-8568-EACF257CA58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Times New Roman"/>
              </a:rPr>
              <a:t>Le dossier de CD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(détai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appel du domaine d’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rchitecture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coupage éventuel en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ésentation des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odèle organisationnel des traitements (MO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scription détaillée des procé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odèle logique des données (M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lassification des donnée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425F-D2C7-42DC-B496-5FD600AC8EE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Times New Roman"/>
              </a:rPr>
              <a:t>Le dossier de CD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(détai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ractéristiques de la première 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léments de recette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mpléments pour l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Manuel utilisa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mpléments pour l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ossier d’explo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x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olumét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D86-6D81-47AD-9305-390215E3383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Modèle organisationnel des traitements (MO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55680" y="2041560"/>
            <a:ext cx="6624720" cy="396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73E-EF03-40A1-A27B-238941098428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Pseudo-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3840" y="2133720"/>
            <a:ext cx="8037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lgorithme général :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encaiss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ir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l’article en fonction de sa réfé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l’article es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en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lo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mpare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le règlement donné avec le prix de vente T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les montants sont iden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lo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odifie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l’article en le considéran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vendu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établi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un ticket de ca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41B-49AB-44B3-9C92-248B3C669D85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Modèle logique des données (ML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6118200" cy="163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8A4-A6EE-4834-8472-8F22DD14BB2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valuation de la C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e périmètre du projet est-il resté stable depuis la conception général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Tous les thèmes font-ils l’objet d’une description fonctionnelle détaillé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es standards de conception ont-ils été respecté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es contraintes techniques ont-elles bien été prises en compt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e MOT est-il validé par l’autorité compétent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e MLD est-il validé par l’autorité compétent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F48C-6FBE-4031-A3FA-1AB7C99975A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valuation de la CD (sui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es exigences non fonctionnelles sont-elles bien intégré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es standards de réalisation sont-ils rédigés et complet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[ Les scénarios de prototype répondent-ils aux besoins restés pendants lors de la conception générale ?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Les dossiers de conception sont-ils conformes aux standard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894F-BD73-4587-B67F-24BDF80EACC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contrô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trai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Le client exige-t-il l’utilisation de méthodes ou d’outils spécifiqu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Y a-t-il des restrictions sur la sélection des méthodes ou d’outils de concep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ans quelle mesure le matériel ou le logiciel limitent-ils les options de concep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ttentes du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L’avis du client est-il important pendant le processus de concep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Quelle est la part de validation appropriée pour satisfaire les besoins du clien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AD5D-CBB6-4D93-853D-5E3DAAF7E99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« 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Comment ?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 »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sidérer l’architecture du prod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iviser le produit en sous-ensem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out en s’assurant que la sol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alise toutes les fonctions prév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met de contrôler le bon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alide le prod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D41-E683-4865-9C26-ADD83B088C8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contrôles (sui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ype de systè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Le système entre-il dans une catégorie pour laquelle il y a des méthodes éprouvé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Avec quelles interfaces extérieures le système devra-t-il travaille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ype d’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La mise à jour sera-t-elle simpl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Le système est-il sujet à changement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Quelle est la taille probable du systèm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FB63-FC5A-46D5-93D8-A2A843F815B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contrôles (sui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vironnement du pro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A-t-on suffisamment d’expérience dans l’application de la méthode ou des outil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Quelle taille d’équipe est nécessaire pour le proje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Y a-il des revues et des révisions de concep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es règles sont-elles en place pour définir les procédures de concep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ue d’ensemble du cycle de v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es critères d’acceptation spécifiques ont-ils été fixé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Le service après-vente du système est-il obligatoir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Quel est le niveau de documentation nécessair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CB1-CCB0-4055-9E87-42E87225F6A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contrôles (sui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igences non fonctionn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Y a-t-il des exigences de performances du systèm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Quel niveau de fiabilité est exigé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La facilité d’utilisation du système est-elle un facteur clé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EC4-F819-4B05-A140-D46EFD5C445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Nor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7400" y="2208240"/>
          <a:ext cx="8008920" cy="39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208240"/>
                    <a:ext cx="800892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3D9-52F2-4A46-AA5A-FB7C93D67B40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ritères (facteurs qualité) utilis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ue de l’utilis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pacité fonctionnelle - Conformité - Efficac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ue de la maîtrise d’ouv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pacité fonctionnelle - Conformité - Fiabilité - Intégrité - Rendement - Maintenabi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ue de la maîtrise d’œuv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formité - Intégrité - Testabi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050-DF8F-4E2B-82F0-5A3964AB157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eux phases s’enchaîn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conception générale (CG)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u systè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scription fonctionnelle complète du futur système d’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ossier de conception géné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conception détaillée (CD)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u logic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scription complète (et vérifiée) du futur sys-tème informatique dans l’environnement c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ossier de conception détaill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BD78-6B7B-4F75-91FB-42B6AEBD99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395160" y="2057400"/>
            <a:ext cx="3157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stème de dé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ystème d’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stème opé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6740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85960" y="2666880"/>
            <a:ext cx="159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nformation d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62640" y="4191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nformation d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epré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12360" y="2666880"/>
            <a:ext cx="22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mande et restitution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’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40600" y="4267080"/>
            <a:ext cx="20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mande et collect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’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0" y="4952880"/>
            <a:ext cx="8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lux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0200" y="502920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lux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t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11400" y="35053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rd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91280" y="25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86480" y="4137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1036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33840" y="2057400"/>
            <a:ext cx="2666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581280"/>
            <a:ext cx="3124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62440" y="5029200"/>
            <a:ext cx="2209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109960" y="236232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4876920"/>
            <a:ext cx="1623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16080" y="27432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81360" y="1219320"/>
            <a:ext cx="533376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5257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7320" y="1295280"/>
            <a:ext cx="31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stème organisat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0000" y="533520"/>
            <a:ext cx="20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vir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64E-D4C4-4C77-AFDD-EA350099E577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Système informat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49840" y="1981080"/>
            <a:ext cx="4944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système de 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ai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pilotage des trai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émor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gestion des 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70400" y="259704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0760" y="29178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é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56120" y="269064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mande de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94280" y="25750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70400" y="40449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0760" y="43657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é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56120" y="413856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mande de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94280" y="402264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4BB-457B-4D65-BEF3-E594535940C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phase Conception Génér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nalyse de l’exi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hoix d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odélisation de la communication (MC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finition de l’architecture du systè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odélisation des traitements (MCT) et des données (MC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pécifications des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alidation &amp; Rev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B748-5355-4927-9289-5100D8C2EB4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Times New Roman"/>
              </a:rPr>
              <a:t>Le dossier de CG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(sommai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ocuments applic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nvironn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sentation de la conception géné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léments de va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nn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8E0A-841D-4D48-9813-8259F7E686B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Times New Roman"/>
              </a:rPr>
              <a:t>Le dossier de CG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(détai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appel du champ d’application et des enje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rchitecture fonctionn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coupage éventuel en 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ésentation des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odèle conceptuel de communication (MC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scription des trai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scription des donn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raitements de conversion/reprise des donn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286-1FDD-4E13-9FDB-E530068E3C4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 concep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18:27:35Z</dcterms:created>
  <dc:creator>Olivier Guibert</dc:creator>
  <dc:description/>
  <dc:language>en-US</dc:language>
  <cp:lastModifiedBy>Département Informatique</cp:lastModifiedBy>
  <cp:lastPrinted>1999-03-01T16:36:18Z</cp:lastPrinted>
  <dcterms:modified xsi:type="dcterms:W3CDTF">1999-03-07T13:14:48Z</dcterms:modified>
  <cp:revision>39</cp:revision>
  <dc:subject/>
  <dc:title>La conception</dc:title>
</cp:coreProperties>
</file>