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D28-046F-41B2-9981-D78EB2D8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1DB-4AF7-40B8-AEE4-0F865ED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E97-D9A4-44F4-9CDE-8BE403E9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85E-FC3C-4040-AE3F-FD95A489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ED5-4F26-454D-890A-13CB656C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5A3-510F-415B-A4E5-126116B8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ACF-A7F3-47DF-89DC-5F0AD53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A0E-4CCA-4843-9862-2C32DBBD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4FF-F77D-4B09-BDA4-4DF21B0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0F1-7D57-445B-B7B7-2EFBE7F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ED6-6A23-424F-9F59-FCF80D5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5D3-F14E-4764-A354-63CD445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F96-43ED-4EC4-A784-3C71BE75E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Rec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6B0-9C7A-4D71-8D4A-3EBF7F4DF63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cahier de rec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Conditions de dérou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y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Procédures d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tion des standards de réf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s d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ection des jeux d’es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 des 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Traitement des anomalies et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cédure inc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e d’anom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5D1-AF6A-41C0-B3D0-2851319660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rec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ssiers de conception générale de jeux d’essais sont-ils conformes aux standar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même question pour ceux de la conception détaill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ssiers de valorisation de jeux d’essais sont-ils conformes aux standar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ous les éléments de configuration ont-ils été livr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este-il des anomalies de recette maîtrise d’ouvrage non corrigé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este-il des corrections d’anomalies, rectifiées par la maîtrise d’œuvre, non validées par la maîtrise d’ouvrag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08D-6C81-4EAB-AC54-0BF02E1968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recette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st-ce que les corrections font apparaître de nouvelles anomali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tests de non régression ont-ils été fai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cuments de conception sont-ils à jour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cuments de développement et de paramétrage sont-ils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tests techniques ont-ils satisfait aux exigences technique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este-il des essais complémentaires à effectu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procès-verbal de recette a-t-il été établi sans réserv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237-1928-4376-B3B3-2178C676F0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contrô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roch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s procédures de test définies sont-elles en plac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es équipes de test indépendantes sont-elles utilisé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mploie-t-on des méthodes standards de développement du logicie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ification et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-t-on prévu suffisamment de temps et d’efforts pour le tes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s plans de test sont-ils produits comme une partie intégrante du plan du proje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 test est-il revu et enregistré formelle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s responsabilités vis-à-vis du test sont-elles clairement défini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C03-5335-4893-8FC7-42DFB6E8FD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contrôle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xiste-t-il un plan de test au niveau le plus élevé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our un projet important, existe-t-il des plans de tests détaillés pour chaque phas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a conception de la phase de tests suit-elle un format standar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sures prév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elles sont les vérifications faites dans la phase d’exigences pour détecter les err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elles sont les vérifications faites dans la phase de conception pour piéger les err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C99-CCFB-4F57-97D7-6E49D79841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63480" y="1674720"/>
          <a:ext cx="789804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674720"/>
                    <a:ext cx="789804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6E1-2640-4013-B542-F7D6C20E78C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ritères (facteurs qualité) utili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’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pacité fonctionnelle - Conformité - Efficacité - Test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ouv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formité - Efficacité - Rendement - Maintenabilité - Test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œu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formité - Rendement - Test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759-1CE4-4FD5-90C2-E5FB3214F2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cycle de vie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9320" y="1981080"/>
            <a:ext cx="577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amétr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ec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tallation &amp;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s &amp;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34040" y="3218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46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351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05240" y="245592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881360" y="24559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81360" y="35463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557160" y="39099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27200" y="4200480"/>
            <a:ext cx="32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réparation des jeux d’essais</a:t>
            </a: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ecevabilité</a:t>
            </a: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a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419-32BD-41AD-95E0-3FF5AC31C7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ois phases s’enchaî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éparation des jeux d’ess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ception générale des jeux d’es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ception détaillée des jeux d’es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orisation des jeux d’es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ecev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rôle de la livr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qua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fonctionn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rocès verbal de rec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ériode de garan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561-76C0-4CB3-849B-BB47570ED8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conception général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es jeux d’ess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dentification des cas fonc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itution d’une matrice de découv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herche des critères de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oix de cas significatifs à retenir pour les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B57-570B-45BF-95A2-E37DA8CDF4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conception détaillé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es jeux d’ess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alyse fine des cas fonc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itution de scè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termination de l’ensemble des traitements à effect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oix des données à uti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semblage des scènes : les scé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duction des plans de tests formali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15F-6648-4CFB-901F-BC4E2C1423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qualification fonctionn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érification du bon et correct fonctionnement du système livré relativement aux exigences fonctionnelles prédéfi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 utilisateurs exécutent les essais dans l’ordre des plans d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anomalies (description de l’incident et des conditions de l’événement) sont signalées à l’équipe de dévelop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1B5-ADF9-44B2-BEDB-AB77DB834B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qualification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érification, sur l’environnement technique cible, du futur système et des performances attei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 experts d’exploitation et du réseau effectuent des contrôles relativement aux exigences techniques prédéfi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anomalies (description de l’incident et des conditions de l’événement) sont signalées à l’équipe de dévelop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86B-ABED-4035-AFBC-120D88F0D5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-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de recev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s de conform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ette par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ette par logic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ette du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d’inté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cette d’inté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procès verbal provisoire (de recet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AA4-0017-4EED-9859-8BAA92CBFD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-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de recev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érifications dans l’environnement rée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streint, mono-établ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et, mono-établ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et, multi-établ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procès verbal définitif (de recet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120-E6EE-4212-8701-F8EF590AA8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recet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8:27:35Z</dcterms:created>
  <dc:creator>Olivier Guibert</dc:creator>
  <dc:description/>
  <dc:language>en-US</dc:language>
  <cp:lastModifiedBy>Département Informatique</cp:lastModifiedBy>
  <cp:lastPrinted>1999-02-28T23:27:47Z</cp:lastPrinted>
  <dcterms:modified xsi:type="dcterms:W3CDTF">1999-03-07T19:38:24Z</dcterms:modified>
  <cp:revision>62</cp:revision>
  <dc:subject/>
  <dc:title>La recette</dc:title>
</cp:coreProperties>
</file>