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467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3B41-E9F9-4C0C-A7C9-FD5757C65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AD6D-1009-450B-9666-37B9EB99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1107-31B1-452F-974A-F6C46DEAA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CE02-19A1-43B1-AA8F-8ADCAB86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96CF-A4C8-4F15-9E9A-101316D1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C3E6-C1C3-4851-9473-4E8B9918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340C-28E8-4BA5-9322-A7335572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B452-F2ED-4522-A733-86AEE42C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12EB-E5DE-45DB-8E33-94C2B0A7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ACE9-AEF6-4EAB-BC1C-7A183FD8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7E7B-E089-471F-A77E-6C0B1401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98AA-1ACD-4DF8-B527-ADDB7C8B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FC7A-ED5A-4C34-B74B-B68AE4DA76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’Installation et la Diff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0CFC-EE10-4770-8695-9C5049AC717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'installation et la diffusion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Times New Roman"/>
              </a:rPr>
              <a:t>La gestion de la configuration logicielle [IEEE - 828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bjec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ad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éfinitions et abrévi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éfé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2 G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rgan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sponsabil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trôle des inte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mplémentation du proj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olitique, directives et procédures applic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76B3-721F-4D4E-BEA1-8696D8D9EC5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'installation et la diffu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Times New Roman"/>
              </a:rPr>
              <a:t>La gestion de la configuration logicielle [IEEE - 828] (suit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3 Activit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dentification de la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trôle de la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dministration de la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udits et rev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4 Outils, techniques et méthod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5 Contrôle des fourniss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6 Collecte et archivage des donné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EF53-BD46-4EAA-82E2-67144DA932F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'installation et la diffu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Evaluation de l’instal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es documents de gestion des versions sont-ils conformes aux standards et à jou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e guide et les procédures d’installation sont-ils à jou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e guide d’exploitation est-il à jou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e manuel utilisateur est-il à jou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21F8-8AD1-450E-B6AC-45432443013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'installation et la diffu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Evaluation de la 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es manuels utilisateur sont-ils conformes aux standards et à jou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es supports de formation sont-ils prêts à temp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es supports de formation ont-ils bien été remis aux participant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es études de cas montrent-elles effectivement les enchaînements des tâch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es exercices de formation sont-ils simples et complet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Tous les utilisateurs ont-ils été formés au nouveau système et à ses procédur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645A-9E72-421F-A35F-4542F8E352A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'installation et la diffu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Evaluation de la formation (suit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’évaluation des cours faite par les auditeurs a-t-elle été recueillie pour chaque formatio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e niveau de satisfaction des participants est-il satisfaisan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CFB7-17DA-4BB0-9B5A-87FF2CFAC1C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'installation et la diffu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Nor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789120" y="1839960"/>
          <a:ext cx="7700760" cy="858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9120" y="1839960"/>
                    <a:ext cx="7700760" cy="85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0BDF-A052-4FD2-A015-2C0BC0A66A1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'installation et la diffu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Critères (facteurs qualité) utilis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Vue de l’utilisat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Vue de la maîtrise d’ouv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Fiabilité - Efficacité - Portabilité - Interopérabil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Vue de la maîtrise d’œuv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1214-2BF3-4535-A21F-E4EF0CBCF44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'installation et la diffu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e cycle de vie du logici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080" y="1854360"/>
            <a:ext cx="5770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pé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ramétrag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velo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c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Installation &amp; Dif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volutions &amp; Mainte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22800" y="30909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41800" y="4538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41800" y="5224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94000" y="2328840"/>
            <a:ext cx="17528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770120" y="232884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70120" y="341964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446280" y="378288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36760" y="4795920"/>
            <a:ext cx="3728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Détermination de la version</a:t>
            </a:r>
            <a:br>
              <a:rPr sz="2000"/>
            </a:b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Administration de la configuration</a:t>
            </a:r>
            <a:br>
              <a:rPr sz="2000"/>
            </a:b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Procédure d’installation</a:t>
            </a:r>
            <a:br>
              <a:rPr sz="2000"/>
            </a:b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Procédure de dif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1B45-806C-4C5B-A91C-BCF2FEEB99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'installation et la diffu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’Installation et la Diff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bjectif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staller le logiciel la première f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îtriser la diffusion du logiciel dans le temps et l’e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emarqu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ctivité variable selon le nombre de sites concern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ndition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ogiciel qualifi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cédures indiquant les mises à niveau à réali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19E8-9857-436C-86BD-C1B0ED64929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'installation et la diffu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Quatre phases s’enchaînent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(les trois premièr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détermination de la 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mposants logiciels - Composants de documentation - Autres compos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’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administration de la config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ise à jour du référentiel de la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procédure d’insta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cédure automatique - Procédure manuelle - Mode d’empl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alidation « packaging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5EEB-DE7D-436A-8619-46810728FB8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'installation et la diffu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Quatre phases s’enchaînent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(la quatrièm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procédure de diff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vec intermédiaire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cédure - Documentation et 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AB8C-37DE-46E8-8496-114289B9726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'installation et la diffu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a détermination de la version/ré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a version/révision est le moyen d’identifier un ensemble de composants (de la configuration) cohérents entre-eux et faisant partie d’un lot de livraison (partielle ou total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Numérotation :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 évolution fonctionnelle ou modification de l’architecture (ver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 corrections ou adaptations (révi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1320-F636-4CB7-B1FD-FA281A31DF3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'installation et la diffu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’administration de la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a configuration est un ensemble complet et cohérent de composants qui permettent de définir entièrement une version du logiciel à un instant donné (de son cycle de vi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xemples de composants de la configurati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ocumentation, logiciel (pseudo-code, exécutables, etc.), données, éléments d’accompagnement, didacticiel, E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5CDC-0386-4F23-AF83-EBCF2F1557B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'installation et la diffu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’instal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laboration du plan d’insta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mpatible avec l’environnement cible, conforme au contrat, documen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a procédure d’installation contient des parties automatiques et des parties manuel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ode d’emploi en cas d’anomalie, traçabilité, enregistrement des références des versions install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’insta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forme au plan d’installation, déroulement et résultats documentés, revue d’accep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6880-557A-4E20-94C5-7E96A4E3E48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'installation et la diffu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a diff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rocédure d’échange aller vers les distribut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rocédure d’échange retour depuis les distribut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raitement des anoma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éfinition de l’assistance à apporter aux diffus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ise en place de l’assistance téléphon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37E8-7303-4A2F-B9BC-DFB7430EB4D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'installation et la diffu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5T18:27:35Z</dcterms:created>
  <dc:creator>Olivier Guibert</dc:creator>
  <dc:description/>
  <dc:language>en-US</dc:language>
  <cp:lastModifiedBy>Département Informatique</cp:lastModifiedBy>
  <cp:lastPrinted>1999-02-28T23:27:47Z</cp:lastPrinted>
  <dcterms:modified xsi:type="dcterms:W3CDTF">1999-03-08T06:11:36Z</dcterms:modified>
  <cp:revision>63</cp:revision>
  <dc:subject/>
  <dc:title>L'installation et la diffusion</dc:title>
</cp:coreProperties>
</file>