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6840" y="6095880"/>
            <a:ext cx="307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-</a:t>
            </a:r>
            <a:fld id="{657B7256-A94F-43FF-BCFE-2611C5E9E0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du co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.Féli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cessus d ’expression du besoin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.F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cessus de conception du logiciel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O.Guibe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cessus de développement de logiciel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O.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recette, l’installation, la diffusion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O.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évolutions, la maintenanc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O.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cumentation et gestion de configuration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.F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SO 9001, 9000-3, Tickit..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C.Mén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érents types de prod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’intéressera aux produits suiva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ic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res produits non étudi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ations intellectuelles (juste un dossier d ’étu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ce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légation de pers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’ingénierie du logiciel et la norme ISO 122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SO 12207: Processus de cycle de 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jet infor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rme gén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ense les processus mis en œuv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cessus de base (d’acquisition, de fourniture, d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développemen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d’exploitation, de mainten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cessus de support (de documentation, de gestion de configuration, d’assurance qualité, de vérification, de validation, d’audit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cessus organisationels (de managment, de formation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eurs ‘qualité’ et la norme ISO 91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giciel et produit manufactu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duits diffé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ise en compte de caractéristiques spécif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teurs qualité du logic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cteurs de Walters/Mc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1 caractéristiques ‘qualité’ de la norme ISO 9000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6 caractéristiques ‘qualité’ de la norme ISO 91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ractéristique subdivisée en sous-caractéris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facteurs de Mc Call (197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eurs 'environnement d'exploitatio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ité/fiab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us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tib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acit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fidential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égr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lité d'utilisation (maniabilité-convivialité-ergonom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cteurs 'environnement de maintenance et suivi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extensibilité/maintenabilité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éutilisab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rtab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ité du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titude d'un produit logiciel à réaliser exactement les tâches définies par sa spé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é essenti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ile à mettre en œuvr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ème: spécifications difficiles à formaliser vigoureu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abilité du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1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"Aptitude d'un dispositif à accomplir une fonction requise dans des conditions d'utilisation et pour une période de temps donnée"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e X06-5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2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"Probabilité pour qu'une panne du logiciel, provoquant une erreur par rapport à un résultat attendu au -delà des tolérances spécifiées, ait lieu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abilité du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abilité du logiciel (su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produire des logiciels à haut niveau de fi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viter les défa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iger les défa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êcher l'utilisateur d'en f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e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titude d'un logiciel à fonctionner même dans des conditions an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eu  flou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moins flou, valid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abilité=validité+robus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tibil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titude des logiciels à pouvoir être combinés les uns avec les au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des données norm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utilisateur normali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on de type abs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ac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ne utilisation des ressources matéri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ilité d'u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és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apprendre à l'util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le faire fonctio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interpréter les ré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réparer les effets en cas d'erre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strialisation de la production de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ques rep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6 .. 1965 : brico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5 .. 1975 : travaux d'arti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5 .. 1999 : industri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dicateurs du niveau d'industri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de la norm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sence de concepts et démarches liés à la qu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dentialité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écurité du logici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ion des ressources contre les événements qui pourrait conduire à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odification non autorisée de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ression (per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observation non autorisée de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indisponibilité de données ou services offerts par le 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il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é d'adaptation d'un logiciel aux changements de spé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ème lié à la ta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du possibl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icité de la con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 auton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utilisabil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ptitude d'un logiciel à être utilisé en tout ou en partie pour de nouvelle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 classique dans d'autres do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ortabil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acilité avec laquelle un produit logiciel peut être adapté à différents environnements matériels ou logici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tenance et fa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4832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épartition des coûts de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dif. des exig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dif. de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rr. u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rr. de rou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dif. de matér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mélioration d'e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tenance et fa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d'avoir un logiciel exten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e format des données change, les programmes doivent s'adapte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abs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érents niveaux d'une base de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documentation est réalisée pendant le processus de documentation (ou jamais 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pas considérer la documentation comme un produit distinct du logic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tenance et fa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u de 'portage' ou toute tentative de portage est écar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 ça marche les utilisateurs sont satisfaits, ou la plupart des logiciels sont effic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qualités essentie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alidité, Robustesse, Extensibilité, Réutilisabilité, Compati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programmes 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. ne font pas ce qu'ils sont censés 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. ne sont pas conçus pour prendre en compte des situations an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. sont trop difficiles à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. sont construits sans effort préa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. ne se combinent suffisamment les uns aux au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qualités essentie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à ces problè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 : développement systématique de logici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écification précise des besoins et des contrai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sation de techniques basées essentiellement sur des méthodes form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4,5 : exigent des techniques architecturales qui produisent des programmes souples, décentralisés, composés de modules connectés par des interfaces bien défi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il faut s'intéresser aux crit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ne solution immédiate : produire du logiciel modulaire 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synthèse raisonn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pacité fonc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orm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ég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nd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lex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rt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utilis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eropér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de vie du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 compl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développement nécessite des activités très diversifi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îtrise de son développ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er pour régn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élisation des activ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és success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iel : un produit industr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logiciel doit devenir un produit industr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ant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gmenter productivité, qualité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minuer le coût, les risques d'erreurs,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méliorer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énie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elier de génie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util de prototypage/maquet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us une démarche qualité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de vie du logiciel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présentation graphique et 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 autour de laquelle les activités d’assurance qualité peuvent se greff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6 modèles recens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scade, en V, prototypage, cascade par extensions successives, incrémentable, en spir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ixage de ces modè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en casc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plus répandu, idéal si pas de problème de faisabilité, nombreuses var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différentes phas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écification 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ion prélimi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ion détail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s uni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é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ycle en cascade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pécification du logiciel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Software requirement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finition de manière précise, complète et cohérente ce dont l'utilisateur a bes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sier de spé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des fonctions à réal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 d'exploitation et d'u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ère de qua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en casc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ion prélimin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emble d'activité conduisant à l'élaboration de l'architecture 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sultats : dossier de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 des fonctions à réali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e de ces différentes fonctions (interface, définition des données,  définition des composants du logici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fication des cho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pour justifier la fais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tion des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coupage du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tion des phases sui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en casc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ion détaill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tailler les résultats de la conception prélimin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de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er la phase de co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en casc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uction de la conception détaillée en un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sation d'un environnement de program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age de progra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age de 4ième génération, générateur de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en casc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s unita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r = vérifier la conformité par rapport au dossier de conception détaillé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r séparément chaque composant du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s-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en casc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é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age progressive des différents composants du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des composants manqu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érifier la conformité avec le dossier de conception prélimi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en casc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'assurer, au moyen de tests, qu'un logiciel est conforme au dossier de spécification du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en casc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o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e en explo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sation du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enance du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tection des défauts résidu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on des err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ation du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ution du dossier de spé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normalisation des logici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rganismes militaires puis civ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SO:International Standar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MA:European Computer Manufacturers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EEE:Institute of Electronics and Electrical Engin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NOR:Association Française de NORm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SI:American National Standard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e en casc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cycle incréme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coupé en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ite de cycles en casc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que p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t partie d'u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crémente les résultats des travaux de la même phase dans le cycl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tention d'un sous-ensemble opérationnel du logiciel assez rapid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ycle incréme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iel et pr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système d ’informations peut être construit suivant plusieurs approch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giciel spécifique développ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iciel standard avec/sans paramèt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gration de progiciel(s) avec personn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elques diffé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étapes du cycle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non-qualité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ntage du concept ‘qualité logiciel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menter la productivité / diminuer le coû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iner son contr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ion d ’une erreur toujours possible (même après l’insta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ût multiplié par 10 d’une étape à l’au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de norm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age d'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de ASCII: pour coder un jeu de carac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cation d'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èle OSI de l'ISO: pour interconnecter des systèmes téléinformatiques hétérogè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de progra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BOL, 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é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marche qualit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SO 9000, AFNOR, 9000-3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é en matière de logic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rigin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maine de l'aéronau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France (1978) : AFCIQ (Association Française pour le Contrôle Industriel de la Qual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nten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grandes entreprises ont un service qualité logic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fession de 'Qualiticien du Logiciel' recon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ciété de conseil en matière de 'qualité du logiciel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que et système d’in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avantag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bulaire herm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lais élas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coûts imprév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 difficile à faire évol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où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intérêt pour développer des méthodologies pour produire du logiciel de qua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progrè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 outils et des métho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hode d’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hode’ de progra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elier de génie logic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ème informatisé de travail en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ils complexes qui nécessitent une maîtris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la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 processus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finalités des systèmes (utilisateurs, cl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iel et normes ‘qualité’ I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e en œuvre des normes ISO diffic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logiciel est un produit immatériel et reproductible avec une extrême fac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e ‘universelle’, puis norme dédiée (9000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 de ‘recette mirac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xpérience s’acquiert, mais ne se transmet p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boration de votre appro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ée au con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4T11:46:14Z</dcterms:created>
  <dc:creator>pf</dc:creator>
  <dc:description/>
  <dc:language>en-US</dc:language>
  <cp:lastModifiedBy>Félix Patrick</cp:lastModifiedBy>
  <cp:lastPrinted>1999-02-28T22:37:10Z</cp:lastPrinted>
  <dcterms:modified xsi:type="dcterms:W3CDTF">1999-02-28T22:38:40Z</dcterms:modified>
  <cp:revision>13</cp:revision>
  <dc:subject>intro</dc:subject>
  <dc:title>cours DEST Qualite</dc:title>
</cp:coreProperties>
</file>